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D6A-4A4E-4EAD-AB49-3DE45AA3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DA12-571A-49DE-82C5-50D2C3CC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D29-6CFA-4068-A2E0-879CDA6A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E85A-40DA-468F-894F-0B221B5F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033-51B3-4404-9EBF-B5E130AF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4785-47B7-4E4E-8839-465503F0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6CD-4264-43E8-981F-1E49CE5F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EDB8-37BA-4F57-BEAC-BD5174BE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C1B-D57E-47BD-BEAD-E83C2551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028F-AA71-49CB-87CD-8F0A9559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2590-FB35-4106-96C1-AFFECD42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9A05-55C5-4C25-9D68-5F53B739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F042-3E41-4B34-8ECB-1E136EA7C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Prom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nosaur was our new student tod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bout his adventures in school as a new stu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include at least 5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14740" r="0" b="0"/>
          <a:stretch/>
        </p:blipFill>
        <p:spPr>
          <a:xfrm>
            <a:off x="4876920" y="1676520"/>
            <a:ext cx="369864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4:08:37Z</dcterms:created>
  <dc:creator>fcps</dc:creator>
  <dc:description/>
  <dc:language>en-US</dc:language>
  <cp:lastModifiedBy>fcps</cp:lastModifiedBy>
  <dcterms:modified xsi:type="dcterms:W3CDTF">2007-09-05T14:08:52Z</dcterms:modified>
  <cp:revision>1</cp:revision>
  <dc:subject/>
  <dc:title>Writing Prompt</dc:title>
</cp:coreProperties>
</file>